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B85-46AB-4FBB-9F02-420B18FD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DE1-5385-4B1C-B9E7-EA8E5ECE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D91-2E1F-4C75-9BB9-28CFA429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DC3-0FEA-4BE6-A052-CAFED4EB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804-127E-4500-BE08-D9D4AEBB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C8E-375B-4575-8964-B00FDDF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934-6036-41E7-A969-A88C44F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8E6-B368-40BE-9DAA-085121F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022-DAE6-47CF-8599-9831E87E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C8E-94AC-4122-8AEA-C4CC1BD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4B5-0A62-4A69-A8F6-A141DB8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9DC-73F5-42A6-B89C-A255071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BD1E-A954-490B-96B1-C9590997D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304920"/>
            <a:ext cx="0" cy="6172200"/>
          </a:xfrm>
          <a:prstGeom prst="line">
            <a:avLst/>
          </a:prstGeom>
          <a:ln w="76320">
            <a:solidFill>
              <a:srgbClr val="0099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nited Kingdom,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6:37-38; 7:51-10: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3-1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049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he Temple Is Finis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omon Builds His Palace Complex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7:2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uilt his own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0 feet long; 75 feet wide; 45 feet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13 years to bu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ls made of cut stones; beams, posts and roof made of ce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uilt a court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ne made of ivory and gold; lions on each armrest and on each side of the six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Kings 10:18-20  &amp;  2 Chron. 9:17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built a house for Pharaoh’s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gh Point in Israel’s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d blessed them grea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ce was on all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gnificent temple was fin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were serv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y was at it’s larges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rich beyond compreh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were prosperous and ha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, the most powerful nation at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839080" cy="455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k Brought to the Templ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1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over 7 years to build the temp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6:37-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treasures placed in the temple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:5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k, with the covenant, and holy vessels brought to the temple during a fest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less sacrifices made by the pri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k was set in the Most Holy Place under the wings of the two cherub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ite singers sang; priests blew trumpe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Chron. 5:12-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dication of the Templ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10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smoke filled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e same effects with the tabernacle; Exodus 40:34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spoke to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cknowledged God’s pres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d the fulfillment of God’s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ed up a very appropriate pr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omon’s Prayer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22-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ed for mercy and intervention of God when people pray toward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situations mentio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ths when one word agains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f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r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tra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b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omon Blessed the Peopl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54-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had given them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e word of His promise to Moses f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Him not leave us nor forsake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e turn our hearts to seek Him a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God hear our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Solomon exhorted them to keep all the commandment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ial Sacrifices Offered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8:62-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fire came from heaven and consumed the offerings and sacrific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Chron. 7:1-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e same effects with the tabernacle (Lev. 9:23-2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umbers of sacrifices were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eat celebration took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me from all over Cana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stival lasted for 7 days in addition to the Feast of the Taberna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28:20Z</dcterms:created>
  <dc:creator>Frank D Vines</dc:creator>
  <dc:description/>
  <dc:language>en-US</dc:language>
  <cp:lastModifiedBy>Frank D Vines</cp:lastModifiedBy>
  <dcterms:modified xsi:type="dcterms:W3CDTF">2005-08-14T13:33:21Z</dcterms:modified>
  <cp:revision>14</cp:revision>
  <dc:subject/>
  <dc:title>“Give Us A King” The United Kingdom, Part 2</dc:title>
</cp:coreProperties>
</file>